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3.jpeg" ContentType="image/jpeg"/>
  <Override PartName="/ppt/media/camera.wav" ContentType="audio/x-wav"/>
  <Override PartName="/ppt/media/image1.jpeg" ContentType="image/jpeg"/>
  <Override PartName="/ppt/media/image2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500-219F-4BA5-9B2B-28596A74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047-33B4-4435-843E-60A7E367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7EF-604A-49D2-B6F2-F7E7665F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D07-DC76-4C6F-B02D-D3438365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79E-A4D2-4066-8A3C-6675749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703-15F3-4733-B7A2-0AC3172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1D8-C135-4E7F-A5B2-715F8B3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0FA-62FE-4C38-BF0F-347DE27D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D7A-26EC-4B17-91E5-7554C28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9BF-8934-4105-BFC5-F2F1E71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625-B7FC-42E7-9C04-DB09744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F3A-8CBC-4A45-8498-AF6FA7E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4B76-E194-44BE-ABF6-23A34C538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eachpol.tcnj.edu/amer_pol_hist/fi/000000b7.jpg&amp;imgrefurl=http://teachpol.tcnj.edu/amer_pol_hist/fi/000000b7.htm&amp;h=600&amp;w=419&amp;sz=121&amp;tbnid=4HAzp6BOkZEJ:&amp;tbnh=131&amp;tbnw=92&amp;start=3&amp;prev=/images%3Fq%3Dfrederick%2Bdouglass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edwardsly.com/women/grimke.jpg&amp;imgrefurl=http://www.edwardsly.com/grimkes.htm&amp;h=236&amp;w=199&amp;sz=15&amp;tbnid=Pk9ru7315SIJ:&amp;tbnh=103&amp;tbnw=87&amp;start=2&amp;prev=/images%3Fq%3Dsarah%2B%2526%2Bangelina%2Bgrimke%26hl%3Den%26lr%3D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math.buffalo.edu/~sww/0history/north.star.jpg&amp;imgrefurl=http://www.math.buffalo.edu/~sww/0history/hwny-douglass-family.html&amp;h=304&amp;w=519&amp;sz=68&amp;tbnid=cGBlja0aJhkJ:&amp;tbnh=74&amp;tbnw=126&amp;start=13&amp;prev=/images%3Fq%3Dabolitionist%2Bmovement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sdcoe.k12.ca.us/score/cwvm/anti%2520slavey%2520broadside.jpg&amp;imgrefurl=http://www.sdcoe.k12.ca.us/score/cwvm/exhibit3cw.htm&amp;h=243&amp;w=343&amp;sz=28&amp;tbnid=i5U2_SKPZ00J:&amp;tbnh=82&amp;tbnw=115&amp;start=6&amp;prev=/images%3Fq%3Dabolitionist%2Bmovement%26hl%3Den%26lr%3D" TargetMode="External"/><Relationship Id="rId8" Type="http://schemas.openxmlformats.org/officeDocument/2006/relationships/image" Target="../media/image4.jpeg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mera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chives.gov/grants/annotation/march_2002/images/lucretia_mott.jpg&amp;imgrefurl=http://www.archives.gov/grants/annotation/march_2002/lucretia_mott.html&amp;h=491&amp;w=311&amp;sz=24&amp;tbnid=gbd0v7dstNkJ:&amp;tbnh=126&amp;tbnw=80&amp;start=9&amp;prev=/images%3Fq%3Dlucretia%2Bmott%26hl%3Den%26lr%3D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 for Aboli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739600" y="152388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lled for the end of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200" y="2209680"/>
            <a:ext cx="83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merican Colonization Society – Send African Americans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frica. (Lib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350532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avid Walk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4495680"/>
            <a:ext cx="42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illiam Lloyd Garris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3040" y="35812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The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880" y="449568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The Lib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5486400"/>
            <a:ext cx="7572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erican Anti-Slavery Socie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53352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rederick Douglas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0020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ojourner Truth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666880"/>
            <a:ext cx="41148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arah &amp; Angelina Grimk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760" y="533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The North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784600"/>
            <a:ext cx="399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eal to Christian Wome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5715000"/>
            <a:ext cx="6934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blems for Abolitionist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9000" y="304920"/>
            <a:ext cx="155088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22960" y="3276720"/>
            <a:ext cx="141444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990720"/>
            <a:ext cx="2514600" cy="147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505320"/>
            <a:ext cx="40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8120" y="304920"/>
            <a:ext cx="748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s tolerate both violent &amp; non-violent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s within their own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rison called for equality of women, t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reate their own anti-slavery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2209680"/>
            <a:ext cx="5715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men's Right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089160"/>
            <a:ext cx="69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involvement in reform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riving to strike irons off, we found most sur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we were manacled ourselves.” – Abby Ke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50720" y="430848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journer Truth &amp; the Grimke sis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029200"/>
            <a:ext cx="70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men Declare Their Right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961640" y="5756400"/>
            <a:ext cx="48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rage &amp; property rights ke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1295280"/>
            <a:ext cx="4219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izabeth Cady Stant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680" y="1981080"/>
            <a:ext cx="24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ucretia Mot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0492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eca Falls Conven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886400" y="2631960"/>
            <a:ext cx="50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48 Seneca Falls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men &amp; women at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advancing the rights of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43000" y="3962520"/>
            <a:ext cx="651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claration of Sentiment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979280" y="4800600"/>
            <a:ext cx="345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rights fo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&amp; custody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o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1306440" cy="205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94800" y="60958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ps.gov/wori/declaratio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4572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ucy Ston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16680" y="1143000"/>
            <a:ext cx="50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&amp; Women’s rights activ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d old 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pt maide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51460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usan B. Anthon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32680" y="3241800"/>
            <a:ext cx="54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d for equal opportunity &amp; equal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ed bring movement to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43434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rried Women's Property Act (1848)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1813680" y="5146560"/>
            <a:ext cx="56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d by Stanton &amp; Anthony in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an own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357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3:37:00Z</dcterms:created>
  <dc:creator>nalbert</dc:creator>
  <dc:description/>
  <dc:language>en-US</dc:language>
  <cp:lastModifiedBy>nalbert</cp:lastModifiedBy>
  <dcterms:modified xsi:type="dcterms:W3CDTF">2007-12-03T19:08:12Z</dcterms:modified>
  <cp:revision>12</cp:revision>
  <dc:subject/>
  <dc:title>PowerPoint Presentation</dc:title>
</cp:coreProperties>
</file>